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064C0-1780-4DD0-88D6-7771D84A7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9C77B-0D21-496A-94F9-208F08F57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BE0F9-D7E2-44A2-A665-81191C592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2BCCF-CED5-4821-8B87-7E601E836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5E0E0-5A0A-41F5-A7C8-94BB1DF13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16FF4-C768-486A-A8BD-B9AE3966A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740D3-F201-4F48-904E-84878F311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AAEAB-7E91-4DA0-9C65-298F0FD47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21084-816D-4637-9CCE-F9D9B677A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322C1-FD6A-4D9B-8250-686FBBFE9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19311-8F66-46CB-94B8-96A8A73E6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8E8A8-7330-4311-B117-5D137ED37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45873-F9EA-4304-BC66-77DA15075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FCA5C-74BA-40E4-AADB-F042F7C8E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8B7DA-8D1E-48F5-AFD3-C2BA3D854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2B17C-924B-4D3C-A46D-40A5095BA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04B3E-0AEC-486C-83A7-54AEC87BD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AFF57-5ED3-4B2D-937C-19ECA6346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5ABFB-ECFD-4F07-BB0D-B8C5646C0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44AEE-8331-4AEE-A072-1DB7667A0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F0C38-0DCF-4429-A11C-13458372B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6F70A-7F56-408F-8A4A-B7E5C1E46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3ECE5-AA27-457A-B837-B2A8A0F2E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6E9E2-90A4-4F16-830E-F995910F2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30E48-66CC-498E-BF68-0FBF883BD26B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346120"/>
            <a:ext cx="859284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3439800"/>
            <a:ext cx="76770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542916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B1257-DC32-40A4-B633-11AE1B79157C}" type="slidenum"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339560"/>
            <a:ext cx="85932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638"/>
                </a:solidFill>
                <a:latin typeface="굴림"/>
                <a:ea typeface="굴림"/>
              </a:rPr>
              <a:t>3</a:t>
            </a: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장 공동 협력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-360" y="2922120"/>
            <a:ext cx="76770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공동 협력의 개념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 협력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Collaboration)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이란 교사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아동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가족이 문제 해결을 위하여 자신들이 지닌 자원과 강점을 공유하는 역동적인 과정이다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.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협력과 상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/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자문과는 차이가 있음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상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/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자문이란 한 사람의 전문가가 문제해결을 도와주는 과정이므로 동등한 입장이 아니지만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협력은 참여자 모두가 동등한 자격으로 의무를 공유하고 의사결정을 함께 내리는 것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.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 협력은 결혼의 조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신랑과 신부의 관계 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부모와 교사의 공동 협력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부모와 교사의 협력 증진 방안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학교활동에 부모참여를 촉진하는 전략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부모와 교사의 회의 전략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특수교사와 일반교사의 공동 협력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일반교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특수교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의사소통 전략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공동협력의 예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실관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사 인터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학급 비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차이점 해결방안 모색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638"/>
                </a:solidFill>
                <a:latin typeface="Arial"/>
                <a:ea typeface="굴림"/>
              </a:rPr>
              <a:t>결론 및 논의</a:t>
            </a:r>
            <a:endParaRPr b="0" lang="en-US" sz="40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공동협력의 필요성 인식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공동 협력이 되지 않는 이유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해결 방안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c638"/>
                </a:solidFill>
                <a:latin typeface="Arial"/>
                <a:ea typeface="굴림"/>
              </a:rPr>
              <a:t>질문</a:t>
            </a:r>
            <a:r>
              <a:rPr b="0" lang="en-US" sz="6000" spc="-1" strike="noStrike">
                <a:solidFill>
                  <a:srgbClr val="ffc638"/>
                </a:solidFill>
                <a:latin typeface="Arial"/>
                <a:ea typeface="굴림"/>
              </a:rPr>
              <a:t>??</a:t>
            </a:r>
            <a:endParaRPr b="0" lang="en-US" sz="6000" spc="-1" strike="noStrike">
              <a:solidFill>
                <a:srgbClr val="ffc638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33480" y="1771560"/>
            <a:ext cx="54738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4T21:04:06Z</dcterms:created>
  <dc:creator/>
  <dc:description/>
  <dc:language>en-US</dc:language>
  <cp:lastModifiedBy>f</cp:lastModifiedBy>
  <dcterms:modified xsi:type="dcterms:W3CDTF">2007-03-28T05:38:25Z</dcterms:modified>
  <cp:revision>14</cp:revision>
  <dc:subject/>
  <dc:title>농아동의 수학교과교육</dc:title>
</cp:coreProperties>
</file>